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0AB3-8062-454D-8FDE-3290C5D0E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C91E-C470-498B-8C07-F381A66BE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86E7-8BD3-4BD1-8D20-E1816F83E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6D62-7080-4C95-B413-4F3DB0C09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3E51-7C69-4B06-A1D9-199B70B2C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8080-12BB-4774-A3F0-822E7F400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50C2-ACD0-4CF3-AE3D-FE686A461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5586-2FD8-434D-BFB1-353236B18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BA96-2B04-43F1-857A-86E327E05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29B6-0476-4733-9503-022955567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F42F-741E-474B-9E7D-9C7284E41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EB2F-26E5-447B-90BB-5BAE9D4C5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can you highlight and pull out the information from the article?</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1DFB-7D29-4F19-A809-F21080C3E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plagiarized version can you somehow show the section and highlight the copied word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D8BC-8A4D-4F52-8870-472F8CFA0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6AEF5-2B3C-443C-807E-F2ACDDA5D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80262-DD05-4BFD-AF2C-024ACF90D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388E6-9A2B-4796-B488-F7BF8CF707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AF7FB-B9CA-4868-A5AA-07595DB44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71EACC-1651-40FC-B8FD-55A57EBD9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B5CC3-CBAE-404F-AD67-5D1FE101E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272C8-D718-46AF-A8CE-4FF07B708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7EE402-A7DB-45E6-964C-5A3DE85D3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7CE1A-FC4D-4770-A989-371E7C98E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0713BA-7BB6-48E7-B80A-396DD36A40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13FD74-1557-4724-BC1D-091CDB170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BA6E3-7CB3-4D7F-8A4C-774788CC6C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C2D2A-C5BE-4CC8-8927-E64BA9A3F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87A59-9169-4F27-B3D3-E547649FF3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D1F851-0E4C-460F-9569-ABC2A577F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1EB44-CECA-43A5-AD38-9D20D62E05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7D58C-9574-4FEF-9E10-12BB4A9144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40D3D-CAFB-42C4-BE9B-C3DA7AEB88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B2E57-45EA-4B3B-AABF-71FEA389A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87569-584A-483D-A1C6-BD7391AF0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9BEA6-F180-4A6F-9D37-6BA607920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F23DA2-9D35-4E51-A79E-6AAF13F66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DA1577-F247-40DB-B6C4-70CF4F0973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65C99-4684-4BA5-AEB0-9CD0F2F91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7CE27E-D395-4897-A9C7-28E3B67DC8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58DA8C-3179-4FD8-8A33-CCF06551DC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164C78-95FE-44A6-83C9-1217DFB2C2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9096B-2C2F-49C3-A3AD-E450D66B49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90AF31-3209-4A78-8789-4FA9D058A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75F27-077E-4277-AF3A-CA8D3EC6C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28427-BA0D-4D9E-A245-8AF15134E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B6216C-ED21-4C54-A493-965B50900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55248-DD2C-450E-9CF9-7F3325F4E4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9634C-7364-463B-8AF2-651D1B1C0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BA781-F662-41EB-AF54-A3FE2F294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F71CF-E753-4D20-944F-5D61DCF38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4D1237-B8D7-4ED2-83F3-7F4C8E88BE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91F20C-287E-42E1-8995-CA77DA268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F210C-2FE0-4639-B9FE-BBD8B9BA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6FBEF-3E8D-42A7-AD06-DB6BF3719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BC055-B69C-4346-9C58-F981440AA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275E9-A561-4C07-A4D5-1630CD542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3F73F-C5BB-4007-B371-83A323330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286ED-B4CD-4713-8177-034D6613B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3B4AB-4142-4948-9333-6ACDF37F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2E49B-3295-41B2-BEB2-A8D9699E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C070A-8799-495D-9947-E2EA1A385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036CF-CA6B-4F03-A3DF-9573314D0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2D81E-7666-4CF4-BAF4-3992C658E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65688-5AEF-4EF4-A136-7DAE04746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6C68-904E-47EA-AAC6-6640F976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69E7-178F-49E0-B0B0-225E49A7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104D37-9724-4938-9364-A3FAAC25B5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FB91-71DB-4763-99DD-3A406BF65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7A81E-736F-48CC-B98A-98555D8F1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7CD57-2984-4ACD-ADF9-653225DEE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A48BA-D718-4287-BED6-0FD4B68EB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AE56F-46F2-4725-B1AA-EEE638AFF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51C28E-CA2D-42C0-9D0D-C6655D73A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AAC62-7E86-4B92-BC79-93C5B316D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90B74-205C-4AFB-AAF1-A42927852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0CCCA-1CC6-4665-A69A-1BDF6711E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1DEBA8-8BFA-4ACC-8CAA-35C16E364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B0AE10-8E16-4F63-A598-BCF662D356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4085B-C185-4FEB-93C3-6AE8733C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58E02-C5EE-4864-A4ED-DD38B4D03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B42994-A291-4337-B5C0-E9ED6AEED7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7E332-EAF5-48E4-A197-EB612E0396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0D4A4-27CB-4122-84B4-9CD14A638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1CFFA-E00C-41AB-8725-A7D16AD06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3F649-4EB2-4D2F-9B7A-C7542BE3F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65019-12A3-40DB-8FAF-D1A64E56D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AD224-DDB6-43C9-9243-E1197CCBE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69159-5738-424F-BD20-A4E1C29FE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71BC2-03B8-4161-BC88-9FCF8929B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32FB-9485-46E9-8EFF-B89DE8593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3DEC1-9FB6-4E19-8E8F-B3CF76C30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C9631-0C95-4B86-B7D0-332422BFA9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35B20-7EBB-4379-AD38-0A3016DC9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218047-CD44-4095-BB67-ED4A0EFD22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61719-99C3-4A24-A701-5D61D822C5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52D96-37EB-48E1-AD43-741B5756E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22469-A7B1-452C-AEC0-254CB65D2F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0117D-0B0C-4994-B8EC-288CEFFD7C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EC8434-4790-448E-BE78-5E1F51F97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4345D-A845-41D5-8E32-193834BAD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DC11-6AC7-4C00-B2B0-EC1D1EE39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8BE96-FB38-45E6-940D-8CC4B496F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64147-3461-4672-B2DF-796868F72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7E91B-5DE9-4199-9626-186624CBC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7B7884-9CB5-4183-8585-867B738BAD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846B35-D9BB-4D8D-9099-C2F8D34F0E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DC08A8-F8EE-442B-A445-BB7A520BA4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73EE35-2AC2-48C6-8803-A907239383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519B63-F438-4D3C-AB4F-905ED4206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E2120-E3DC-4587-8A06-D452C758E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58F94-DB61-4395-860D-484E43C7DA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CD74-64EA-4122-B0B2-FC2C8A99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5D2C1-5468-432A-8F3D-1B1F6828F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1D0C5-8D3A-4001-84E0-7DCCB3A9C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6A2D6-DB5D-455E-BDF9-BAB6A7B81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F33AF-52F8-4FDB-B28F-7646256FE1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BAE8F-FAEE-4209-95C9-41A0412B6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2DEDCF-4C50-4A66-9546-DEA4B8A22E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631C64-C341-4ABE-9C35-C36C734B3B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F3973F-65B2-4EEB-BF86-66A090B8A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DECD1-B2B4-4569-8770-63B77C5D7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8CDAF5-01DA-4F10-91B4-AC1FA151733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F50A-A4B7-4F7C-BF96-0FB7D83DD8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94F6-3D00-4C1B-964A-B8BD816A33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8A80-BCBD-44C1-8509-150BE32A34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C60E-52B4-4DB9-84AB-FCE8BB24DA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0561-BD56-44D1-9611-DBE6127871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B6BC-31C6-422E-BFF9-7B5BBBD694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C80A-3E9A-4ED5-AAB4-D59129B182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41BE-B579-43DC-9B39-23D9FCD705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802A-88C3-41D1-AB5C-B3428B9557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ing, Paraphrasing, &amp; Summarizing</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tudents will be able to identify the differences between quotation, paraphrase, and summ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Plagiarism</a:t>
            </a:r>
            <a:endParaRPr b="0" lang="en-US" sz="4400" spc="-1" strike="noStrike">
              <a:solidFill>
                <a:srgbClr val="000000"/>
              </a:solidFill>
              <a:latin typeface="Calibri"/>
            </a:endParaRPr>
          </a:p>
        </p:txBody>
      </p:sp>
      <p:sp>
        <p:nvSpPr>
          <p:cNvPr id="491" name=""/>
          <p:cNvSpPr txBox="1"/>
          <p:nvPr/>
        </p:nvSpPr>
        <p:spPr>
          <a:xfrm>
            <a:off x="457200" y="1371600"/>
            <a:ext cx="8229600" cy="4525920"/>
          </a:xfrm>
          <a:prstGeom prst="rect">
            <a:avLst/>
          </a:prstGeom>
          <a:noFill/>
          <a:ln w="0">
            <a:noFill/>
          </a:ln>
        </p:spPr>
        <p:txBody>
          <a:bodyPr anchor="t">
            <a:normAutofit fontScale="89000"/>
          </a:bodyPr>
          <a:p>
            <a:pPr marL="305280" indent="-305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i="1" lang="en-US" sz="2400" spc="-1" strike="noStrike">
                <a:solidFill>
                  <a:srgbClr val="000000"/>
                </a:solidFill>
                <a:latin typeface="Calibri"/>
              </a:rPr>
              <a:t>Ten years ago, </a:t>
            </a:r>
            <a:r>
              <a:rPr b="0" i="1" lang="en-US" sz="2400" spc="-1" strike="noStrike">
                <a:solidFill>
                  <a:srgbClr val="ff0000"/>
                </a:solidFill>
                <a:latin typeface="Calibri"/>
              </a:rPr>
              <a:t>most</a:t>
            </a:r>
            <a:r>
              <a:rPr b="0" i="1" lang="en-US" sz="2400" spc="-1" strike="noStrike">
                <a:solidFill>
                  <a:srgbClr val="0066ff"/>
                </a:solidFill>
                <a:latin typeface="Calibri"/>
              </a:rPr>
              <a:t> </a:t>
            </a:r>
            <a:r>
              <a:rPr b="0" i="1" lang="en-US" sz="2400" spc="-1" strike="noStrike">
                <a:solidFill>
                  <a:srgbClr val="ff0000"/>
                </a:solidFill>
                <a:latin typeface="Calibri"/>
              </a:rPr>
              <a:t>job search authorities would have said </a:t>
            </a:r>
            <a:r>
              <a:rPr b="0" i="1" lang="en-US" sz="2400" spc="-1" strike="noStrike">
                <a:solidFill>
                  <a:srgbClr val="000000"/>
                </a:solidFill>
                <a:latin typeface="Calibri"/>
              </a:rPr>
              <a:t>that tattoos would have eliminated you from possible contention for a position.  </a:t>
            </a:r>
            <a:r>
              <a:rPr b="0" i="1" lang="en-US" sz="2400" spc="-1" strike="noStrike">
                <a:solidFill>
                  <a:srgbClr val="ff0000"/>
                </a:solidFill>
                <a:latin typeface="Calibri"/>
              </a:rPr>
              <a:t>Times have changed</a:t>
            </a:r>
            <a:r>
              <a:rPr b="0" i="1" lang="en-US" sz="2400" spc="-1" strike="noStrike">
                <a:solidFill>
                  <a:srgbClr val="0066ff"/>
                </a:solidFill>
                <a:latin typeface="Calibri"/>
              </a:rPr>
              <a:t>.  </a:t>
            </a:r>
            <a:r>
              <a:rPr b="0" i="1" lang="en-US" sz="2400" spc="-1" strike="noStrike">
                <a:solidFill>
                  <a:srgbClr val="ff0000"/>
                </a:solidFill>
                <a:latin typeface="Calibri"/>
              </a:rPr>
              <a:t>More than one-third of </a:t>
            </a:r>
            <a:r>
              <a:rPr b="0" i="1" lang="en-US" sz="2400" spc="-1" strike="noStrike">
                <a:solidFill>
                  <a:srgbClr val="000000"/>
                </a:solidFill>
                <a:latin typeface="Calibri"/>
              </a:rPr>
              <a:t>the younger generation </a:t>
            </a:r>
            <a:r>
              <a:rPr b="0" i="1" lang="en-US" sz="2400" spc="-1" strike="noStrike">
                <a:solidFill>
                  <a:srgbClr val="ff0000"/>
                </a:solidFill>
                <a:latin typeface="Calibri"/>
              </a:rPr>
              <a:t>now sport tattoos.</a:t>
            </a:r>
            <a:r>
              <a:rPr b="0" i="1" lang="en-US" sz="2400" spc="-1" strike="noStrike">
                <a:solidFill>
                  <a:srgbClr val="000000"/>
                </a:solidFill>
                <a:latin typeface="Calibri"/>
              </a:rPr>
              <a:t> </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is direct plagiarism.  The text in red has been taken directly from the article.</a:t>
            </a:r>
            <a:endParaRPr b="0" lang="en-US" sz="2400" spc="-1" strike="noStrike">
              <a:solidFill>
                <a:srgbClr val="000000"/>
              </a:solidFill>
              <a:latin typeface="Calibri"/>
            </a:endParaRPr>
          </a:p>
          <a:p>
            <a:pPr marL="305280" indent="-305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2" name="Picture 9" descr=""/>
          <p:cNvPicPr/>
          <p:nvPr/>
        </p:nvPicPr>
        <p:blipFill>
          <a:blip r:embed="rId1"/>
          <a:stretch/>
        </p:blipFill>
        <p:spPr>
          <a:xfrm>
            <a:off x="1905120" y="3276720"/>
            <a:ext cx="5867280" cy="2284200"/>
          </a:xfrm>
          <a:prstGeom prst="rect">
            <a:avLst/>
          </a:prstGeom>
          <a:ln w="0">
            <a:noFill/>
          </a:ln>
        </p:spPr>
      </p:pic>
      <p:sp>
        <p:nvSpPr>
          <p:cNvPr id="493" name="Rectangle 1"/>
          <p:cNvSpPr/>
          <p:nvPr/>
        </p:nvSpPr>
        <p:spPr>
          <a:xfrm>
            <a:off x="3809880" y="3276720"/>
            <a:ext cx="3886200" cy="304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Rectangle 2"/>
          <p:cNvSpPr/>
          <p:nvPr/>
        </p:nvSpPr>
        <p:spPr>
          <a:xfrm>
            <a:off x="1905120" y="3581280"/>
            <a:ext cx="1143000" cy="304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3"/>
          <p:cNvSpPr/>
          <p:nvPr/>
        </p:nvSpPr>
        <p:spPr>
          <a:xfrm>
            <a:off x="4255920" y="4191120"/>
            <a:ext cx="2438640" cy="312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4"/>
          <p:cNvSpPr/>
          <p:nvPr/>
        </p:nvSpPr>
        <p:spPr>
          <a:xfrm>
            <a:off x="5181480" y="4503600"/>
            <a:ext cx="2590920" cy="297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5"/>
          <p:cNvSpPr/>
          <p:nvPr/>
        </p:nvSpPr>
        <p:spPr>
          <a:xfrm>
            <a:off x="3505320" y="4800600"/>
            <a:ext cx="1969920" cy="304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izing</a:t>
            </a:r>
            <a:endParaRPr b="0" lang="en-US" sz="4400" spc="-1" strike="noStrike">
              <a:solidFill>
                <a:srgbClr val="000000"/>
              </a:solidFill>
              <a:latin typeface="Calibri"/>
            </a:endParaRPr>
          </a:p>
        </p:txBody>
      </p:sp>
      <p:sp>
        <p:nvSpPr>
          <p:cNvPr id="499"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Summarizing means to restate the main points of a source in your own words.  Again, you must cite the source. When you summarize you condense the  information source into a few senten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this example, let</a:t>
            </a:r>
            <a:r>
              <a:rPr b="0" lang="ja-JP" sz="2800" spc="-1" strike="noStrike">
                <a:solidFill>
                  <a:srgbClr val="000000"/>
                </a:solidFill>
                <a:latin typeface="Calibri"/>
              </a:rPr>
              <a:t>’</a:t>
            </a:r>
            <a:r>
              <a:rPr b="0" lang="en-US" sz="2800" spc="-1" strike="noStrike">
                <a:solidFill>
                  <a:srgbClr val="000000"/>
                </a:solidFill>
                <a:latin typeface="Calibri"/>
              </a:rPr>
              <a:t>s try summarizing the entire article.  Let</a:t>
            </a:r>
            <a:r>
              <a:rPr b="0" lang="ja-JP" sz="2800" spc="-1" strike="noStrike">
                <a:solidFill>
                  <a:srgbClr val="000000"/>
                </a:solidFill>
                <a:latin typeface="Calibri"/>
              </a:rPr>
              <a:t>’</a:t>
            </a:r>
            <a:r>
              <a:rPr b="0" lang="en-US" sz="2800" spc="-1" strike="noStrike">
                <a:solidFill>
                  <a:srgbClr val="000000"/>
                </a:solidFill>
                <a:latin typeface="Calibri"/>
              </a:rPr>
              <a:t>s look at it aga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5" descr=""/>
          <p:cNvPicPr/>
          <p:nvPr/>
        </p:nvPicPr>
        <p:blipFill>
          <a:blip r:embed="rId1"/>
          <a:stretch/>
        </p:blipFill>
        <p:spPr>
          <a:xfrm>
            <a:off x="0" y="55440"/>
            <a:ext cx="9144000" cy="680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ummary</a:t>
            </a:r>
            <a:endParaRPr b="0" lang="en-US" sz="4400" spc="-1" strike="noStrike">
              <a:solidFill>
                <a:srgbClr val="000000"/>
              </a:solidFill>
              <a:latin typeface="Calibri"/>
            </a:endParaRPr>
          </a:p>
        </p:txBody>
      </p:sp>
      <p:sp>
        <p:nvSpPr>
          <p:cNvPr id="502"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400" spc="-1" strike="noStrike">
                <a:solidFill>
                  <a:srgbClr val="000000"/>
                </a:solidFill>
                <a:latin typeface="Calibri"/>
              </a:rPr>
              <a:t>This article quotes John A. Challenger, a chief executive officer for an outsourcing firm, on his views about tattoos and other body art.  He believes that times have changed and that companies will have to become more accepting of body art if they want to hire young people.  However, he  recommends that job seekers find out about a future employer</a:t>
            </a:r>
            <a:r>
              <a:rPr b="0" i="1" lang="ja-JP" sz="2400" spc="-1" strike="noStrike">
                <a:solidFill>
                  <a:srgbClr val="000000"/>
                </a:solidFill>
                <a:latin typeface="Calibri"/>
              </a:rPr>
              <a:t>’</a:t>
            </a:r>
            <a:r>
              <a:rPr b="0" i="1" lang="en-US" sz="2400" spc="-1" strike="noStrike">
                <a:solidFill>
                  <a:srgbClr val="000000"/>
                </a:solidFill>
                <a:latin typeface="Calibri"/>
              </a:rPr>
              <a:t>s acceptance of body art when interviewing for a position. (USA Today, April 2006, page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04"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Quoting, paraphrasing, and summarizing are all important skills to use when writing research papers.  Using other people</a:t>
            </a:r>
            <a:r>
              <a:rPr b="0" lang="ja-JP" sz="2800" spc="-1" strike="noStrike">
                <a:solidFill>
                  <a:srgbClr val="000000"/>
                </a:solidFill>
                <a:latin typeface="Calibri"/>
              </a:rPr>
              <a:t>’</a:t>
            </a:r>
            <a:r>
              <a:rPr b="0" lang="en-US" sz="2800" spc="-1" strike="noStrike">
                <a:solidFill>
                  <a:srgbClr val="000000"/>
                </a:solidFill>
                <a:latin typeface="Calibri"/>
              </a:rPr>
              <a:t>s information provides support and credibility to your research.</a:t>
            </a:r>
            <a:endParaRPr b="0" lang="en-US" sz="28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quotation marks if you are copying word for wor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araphrasing to put the thoughts of the author into your own word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summary to describe the main points of an information sour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62120"/>
            <a:ext cx="8686800" cy="533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oting, paraphrasing, and summarizing are writing techniques that allow you to use another author</a:t>
            </a:r>
            <a:r>
              <a:rPr b="0" lang="ja-JP" sz="3200" spc="-1" strike="noStrike">
                <a:solidFill>
                  <a:srgbClr val="000000"/>
                </a:solidFill>
                <a:latin typeface="Calibri"/>
              </a:rPr>
              <a:t>’</a:t>
            </a:r>
            <a:r>
              <a:rPr b="0" lang="en-US" sz="3200" spc="-1" strike="noStrike">
                <a:solidFill>
                  <a:srgbClr val="000000"/>
                </a:solidFill>
                <a:latin typeface="Calibri"/>
              </a:rPr>
              <a:t>s work in your research. </a:t>
            </a:r>
            <a:br>
              <a:rPr sz="3200"/>
            </a:br>
            <a:br>
              <a:rPr sz="3200"/>
            </a:br>
            <a:r>
              <a:rPr b="0" lang="en-US" sz="3200" spc="-1" strike="noStrike">
                <a:solidFill>
                  <a:srgbClr val="000000"/>
                </a:solidFill>
                <a:latin typeface="Calibri"/>
              </a:rPr>
              <a:t>Citing others</a:t>
            </a:r>
            <a:r>
              <a:rPr b="0" lang="ja-JP" sz="3200" spc="-1" strike="noStrike">
                <a:solidFill>
                  <a:srgbClr val="000000"/>
                </a:solidFill>
                <a:latin typeface="Calibri"/>
              </a:rPr>
              <a:t>’</a:t>
            </a:r>
            <a:r>
              <a:rPr b="0" lang="en-US" sz="3200" spc="-1" strike="noStrike">
                <a:solidFill>
                  <a:srgbClr val="000000"/>
                </a:solidFill>
                <a:latin typeface="Calibri"/>
              </a:rPr>
              <a:t> works adds credibility to your work and provides support for your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2438280"/>
            <a:ext cx="8229600" cy="28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get started, let</a:t>
            </a:r>
            <a:r>
              <a:rPr b="0" lang="ja-JP" sz="3200" spc="-1" strike="noStrike">
                <a:solidFill>
                  <a:srgbClr val="000000"/>
                </a:solidFill>
                <a:latin typeface="Calibri"/>
              </a:rPr>
              <a:t>’</a:t>
            </a:r>
            <a:r>
              <a:rPr b="0" lang="en-US" sz="3200" spc="-1" strike="noStrike">
                <a:solidFill>
                  <a:srgbClr val="000000"/>
                </a:solidFill>
                <a:latin typeface="Calibri"/>
              </a:rPr>
              <a:t>s read the following short article found in the April 2006 issue of </a:t>
            </a:r>
            <a:r>
              <a:rPr b="0" i="1" lang="en-US" sz="3200" spc="-1" strike="noStrike">
                <a:solidFill>
                  <a:srgbClr val="000000"/>
                </a:solidFill>
                <a:latin typeface="Calibri"/>
              </a:rPr>
              <a:t>USA Today Magazine</a:t>
            </a:r>
            <a:r>
              <a:rPr b="0" lang="en-US" sz="3200" spc="-1" strike="noStrike">
                <a:solidFill>
                  <a:srgbClr val="000000"/>
                </a:solidFill>
                <a:latin typeface="Calibri"/>
              </a:rPr>
              <a:t> on page 1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3" descr=""/>
          <p:cNvPicPr/>
          <p:nvPr/>
        </p:nvPicPr>
        <p:blipFill>
          <a:blip r:embed="rId1"/>
          <a:stretch/>
        </p:blipFill>
        <p:spPr>
          <a:xfrm>
            <a:off x="0" y="-42840"/>
            <a:ext cx="9144000" cy="68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066680" y="205704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w let</a:t>
            </a:r>
            <a:r>
              <a:rPr b="0" lang="ja-JP" sz="3200" spc="-1" strike="noStrike">
                <a:solidFill>
                  <a:srgbClr val="000000"/>
                </a:solidFill>
                <a:latin typeface="Calibri"/>
              </a:rPr>
              <a:t>’</a:t>
            </a:r>
            <a:r>
              <a:rPr b="0" lang="en-US" sz="3200" spc="-1" strike="noStrike">
                <a:solidFill>
                  <a:srgbClr val="000000"/>
                </a:solidFill>
                <a:latin typeface="Calibri"/>
              </a:rPr>
              <a:t>s go through a few examp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Quotations</a:t>
            </a:r>
            <a:endParaRPr b="0" lang="en-US" sz="4400" spc="-1" strike="noStrike">
              <a:solidFill>
                <a:srgbClr val="000000"/>
              </a:solidFill>
              <a:latin typeface="Calibri"/>
            </a:endParaRPr>
          </a:p>
        </p:txBody>
      </p:sp>
      <p:sp>
        <p:nvSpPr>
          <p:cNvPr id="483"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You must use quotation marks if you are taking something directly (word for word) from the information source. Quotations must be attributed to the original auth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rom the article, you like the sentence that says </a:t>
            </a:r>
            <a:r>
              <a:rPr b="0" lang="ja-JP" sz="2800" spc="-1" strike="noStrike">
                <a:solidFill>
                  <a:srgbClr val="000000"/>
                </a:solidFill>
                <a:latin typeface="Calibri"/>
              </a:rPr>
              <a:t>“</a:t>
            </a:r>
            <a:r>
              <a:rPr b="0" lang="en-US" sz="2800" spc="-1" strike="noStrike">
                <a:solidFill>
                  <a:srgbClr val="000000"/>
                </a:solidFill>
                <a:latin typeface="Calibri"/>
              </a:rPr>
              <a:t>However, body art is going mainstream and growing in popularity, particularly among young people.</a:t>
            </a:r>
            <a:r>
              <a:rPr b="0" lang="ja-JP"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685440"/>
            <a:ext cx="8229600" cy="5791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 in your paper, you will incorporate that sentenc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rst paragraph of your research paper say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000000"/>
                </a:solidFill>
                <a:latin typeface="Calibri"/>
              </a:rPr>
              <a:t>Tattoos and body piercings are becoming more and more commonplace.  In fact, if you are standing on a city corner in any city in the United States, you are likely to see a lot of tattoos and body piercings on people walking by.  According to an article found in the USA Today Magazine, </a:t>
            </a:r>
            <a:r>
              <a:rPr b="0" i="1" lang="ja-JP" sz="2400" spc="-1" strike="noStrike">
                <a:solidFill>
                  <a:srgbClr val="00b050"/>
                </a:solidFill>
                <a:latin typeface="Calibri"/>
              </a:rPr>
              <a:t>“</a:t>
            </a:r>
            <a:r>
              <a:rPr b="0" i="1" lang="en-US" sz="2400" spc="-1" strike="noStrike">
                <a:solidFill>
                  <a:srgbClr val="00b050"/>
                </a:solidFill>
                <a:latin typeface="Calibri"/>
              </a:rPr>
              <a:t>…body art is going mainstream and growing in popularity, especially among young people.</a:t>
            </a:r>
            <a:r>
              <a:rPr b="0" i="1" lang="ja-JP" sz="2400" spc="-1" strike="noStrike">
                <a:solidFill>
                  <a:srgbClr val="00b050"/>
                </a:solidFill>
                <a:latin typeface="Calibri"/>
              </a:rPr>
              <a:t>”</a:t>
            </a:r>
            <a:r>
              <a:rPr b="0" i="1" lang="en-US" sz="2400" spc="-1" strike="noStrike">
                <a:solidFill>
                  <a:srgbClr val="00b050"/>
                </a:solidFill>
                <a:latin typeface="Calibri"/>
              </a:rPr>
              <a:t> </a:t>
            </a:r>
            <a:r>
              <a:rPr b="0" i="1" lang="en-US" sz="2400" spc="-1" strike="noStrike">
                <a:solidFill>
                  <a:srgbClr val="000000"/>
                </a:solidFill>
                <a:latin typeface="Calibri"/>
              </a:rPr>
              <a:t>(USA Today Magazine, April 2006, page 10).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tice that quotation marks are used around the sentence that was directly borrowed from the article and the reader was told where the quote was foun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aphrasing</a:t>
            </a:r>
            <a:endParaRPr b="0" lang="en-US" sz="4400" spc="-1" strike="noStrike">
              <a:solidFill>
                <a:srgbClr val="000000"/>
              </a:solidFill>
              <a:latin typeface="Calibri"/>
            </a:endParaRPr>
          </a:p>
        </p:txBody>
      </p:sp>
      <p:sp>
        <p:nvSpPr>
          <p:cNvPr id="486" name=""/>
          <p:cNvSpPr txBox="1"/>
          <p:nvPr/>
        </p:nvSpPr>
        <p:spPr>
          <a:xfrm>
            <a:off x="45720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phrasing means putting information from a source into your own words.  A paraphrase is generally the same length or slightly shorter than the original source.  For this example, let</a:t>
            </a:r>
            <a:r>
              <a:rPr b="0" lang="ja-JP" sz="2800" spc="-1" strike="noStrike">
                <a:solidFill>
                  <a:srgbClr val="000000"/>
                </a:solidFill>
                <a:latin typeface="Calibri"/>
              </a:rPr>
              <a:t>’</a:t>
            </a:r>
            <a:r>
              <a:rPr b="0" lang="en-US" sz="2800" spc="-1" strike="noStrike">
                <a:solidFill>
                  <a:srgbClr val="000000"/>
                </a:solidFill>
                <a:latin typeface="Calibri"/>
              </a:rPr>
              <a:t>s try paraphrasing the following section.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7" name="Picture 9" descr=""/>
          <p:cNvPicPr/>
          <p:nvPr/>
        </p:nvPicPr>
        <p:blipFill>
          <a:blip r:embed="rId1"/>
          <a:stretch/>
        </p:blipFill>
        <p:spPr>
          <a:xfrm>
            <a:off x="1814400" y="3886200"/>
            <a:ext cx="5867640" cy="228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Paraphrase</a:t>
            </a:r>
            <a:endParaRPr b="0" lang="en-US" sz="4400" spc="-1" strike="noStrike">
              <a:solidFill>
                <a:srgbClr val="000000"/>
              </a:solidFill>
              <a:latin typeface="Calibri"/>
            </a:endParaRPr>
          </a:p>
        </p:txBody>
      </p:sp>
      <p:sp>
        <p:nvSpPr>
          <p:cNvPr id="489" name=""/>
          <p:cNvSpPr txBox="1"/>
          <p:nvPr/>
        </p:nvSpPr>
        <p:spPr>
          <a:xfrm>
            <a:off x="457200" y="1905120"/>
            <a:ext cx="8229600" cy="45259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Just 10 years ago, people in charge of hiring would have placed resumes of people with visible tattoos and body piercings in the discard pile.  Today, that policy has changed.  A significant percentage of younger generation employees have tattoos or other body marks. (USA Today, April 2006, page 10)</a:t>
            </a:r>
            <a:endParaRPr b="0" lang="en-US" sz="2800" spc="-1" strike="noStrike">
              <a:solidFill>
                <a:srgbClr val="000000"/>
              </a:solidFill>
              <a:latin typeface="Calibri"/>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otice that you</a:t>
            </a:r>
            <a:r>
              <a:rPr b="0" lang="ja-JP" sz="2800" spc="-1" strike="noStrike">
                <a:solidFill>
                  <a:srgbClr val="000000"/>
                </a:solidFill>
                <a:latin typeface="Calibri"/>
              </a:rPr>
              <a:t>’</a:t>
            </a:r>
            <a:r>
              <a:rPr b="0" lang="en-US" sz="2800" spc="-1" strike="noStrike">
                <a:solidFill>
                  <a:srgbClr val="000000"/>
                </a:solidFill>
                <a:latin typeface="Calibri"/>
              </a:rPr>
              <a:t>ve put the thoughts from the original snippet into your own words.  Using the same words and phrases and just rearranging them is </a:t>
            </a:r>
            <a:r>
              <a:rPr b="0" lang="en-US" sz="2800" spc="-1" strike="noStrike">
                <a:solidFill>
                  <a:srgbClr val="ff3300"/>
                </a:solidFill>
                <a:latin typeface="Calibri"/>
              </a:rPr>
              <a:t>plagiarism</a:t>
            </a:r>
            <a:r>
              <a:rPr b="0" lang="en-US" sz="2800" spc="-1" strike="noStrike">
                <a:solidFill>
                  <a:srgbClr val="000000"/>
                </a:solidFill>
                <a:latin typeface="Calibri"/>
              </a:rPr>
              <a:t> and a serious offense. </a:t>
            </a:r>
            <a:endParaRPr b="0" lang="en-US" sz="2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23:52:24Z</dcterms:created>
  <dc:creator>Operator</dc:creator>
  <dc:description/>
  <dc:language>en-US</dc:language>
  <cp:lastModifiedBy>Laurel Harris</cp:lastModifiedBy>
  <dcterms:modified xsi:type="dcterms:W3CDTF">2013-01-29T17:18:44Z</dcterms:modified>
  <cp:revision>24</cp:revision>
  <dc:subject/>
  <dc:title>Paraphrasing</dc:title>
</cp:coreProperties>
</file>